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2FA-A9D2-4494-B019-2EC4A8EA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AAA-6327-4BC3-9EBC-D2B3B5D5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EED-E74A-4403-A0A8-59FD4740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163-04AB-4F42-8F53-4249A39A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4FCB-A894-485E-9CD0-AD3D2E44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5FF0-85BF-4E15-BCF1-12FEE216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2FA-255B-4A88-8F43-65371B36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BFD4-0ED7-4418-B908-B13C895C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99AC-9F3D-47E8-9F87-B1EDDB63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1988-485D-47A5-A6CA-A1B28B5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DA68-3529-4AFF-9B77-A72A5C4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E52-3D1B-4637-9D70-74B9FADC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8C11-3EAB-4324-81E2-EDDB596E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C097-0C56-4F95-87F6-28BD5B3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A47C-C1BD-4D02-9026-CE3013F7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1E6-666E-4B62-A363-8D96EF6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030F-B46D-4B92-B6B4-C5339F7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DF9-5EAC-49A0-A87A-6565D81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A3F-95A0-400A-89FD-18D01738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1BA-DC69-4FBC-9BEF-B883E9CF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998-8CCA-463B-A320-B28505C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A3F-531F-434F-8B5D-2A3C82B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0AD-7F5E-46A7-B146-DD63613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944-B3FD-4749-923A-82DF25CB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18F0-EC95-411C-B604-011E904C8506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3AA-5901-4E12-BD2A-3BA8D0DEEF86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1C40-B34B-4BF5-9414-EA618699AAD3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C50A-189A-4E9F-906B-E40B948BB756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C:\Program Files\Vfp98\VFP6.EXE" TargetMode="External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png"/><Relationship Id="rId15" Type="http://schemas.openxmlformats.org/officeDocument/2006/relationships/hyperlink" Target="C:\Program Files\Vfp98\VFP6.EXE" TargetMode="External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hyperlink" Target="C:\Program Files\Vfp98\VFP6.EXE" TargetMode="External"/><Relationship Id="rId9" Type="http://schemas.openxmlformats.org/officeDocument/2006/relationships/image" Target="../media/image15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11320" y="1476360"/>
            <a:ext cx="412164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学习要点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 6.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安装方法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命令格式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件的基本命名方法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常用的文件类型和数据类型以及基本概念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52400" y="326880"/>
            <a:ext cx="62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章   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概述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E4D-80C9-4340-9D8D-E9E31BDE2C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AEC34-0F30-4BA8-AFDF-8BAA17178832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14520" y="457200"/>
            <a:ext cx="64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3  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基本概念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37160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1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数据库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01132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2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2080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3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视图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2438280" y="323064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4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关系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2438280" y="384012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5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数据库管理系统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44960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6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常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2438280" y="505944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7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endshow"/>
          </p:cNvPr>
          <p:cNvSpPr/>
          <p:nvPr/>
        </p:nvSpPr>
        <p:spPr>
          <a:xfrm>
            <a:off x="5334120" y="5668920"/>
            <a:ext cx="1747800" cy="503280"/>
          </a:xfrm>
          <a:custGeom>
            <a:avLst/>
            <a:gdLst>
              <a:gd name="textAreaLeft" fmla="*/ 32400 w 1747800"/>
              <a:gd name="textAreaRight" fmla="*/ 1715400 w 17478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975" h="21600">
                <a:moveTo>
                  <a:pt x="0" y="0"/>
                </a:moveTo>
                <a:lnTo>
                  <a:pt x="74975" y="0"/>
                </a:lnTo>
                <a:lnTo>
                  <a:pt x="74975" y="21600"/>
                </a:lnTo>
                <a:lnTo>
                  <a:pt x="0" y="21600"/>
                </a:lnTo>
                <a:close/>
              </a:path>
              <a:path fill="lightenLess" w="74975" h="21600">
                <a:moveTo>
                  <a:pt x="0" y="0"/>
                </a:moveTo>
                <a:lnTo>
                  <a:pt x="74975" y="0"/>
                </a:lnTo>
                <a:lnTo>
                  <a:pt x="73575" y="1400"/>
                </a:lnTo>
                <a:lnTo>
                  <a:pt x="1400" y="1400"/>
                </a:lnTo>
                <a:close/>
              </a:path>
              <a:path fill="darken" w="74975" h="21600">
                <a:moveTo>
                  <a:pt x="74975" y="0"/>
                </a:moveTo>
                <a:lnTo>
                  <a:pt x="74975" y="21600"/>
                </a:lnTo>
                <a:lnTo>
                  <a:pt x="73575" y="20200"/>
                </a:lnTo>
                <a:lnTo>
                  <a:pt x="73575" y="1400"/>
                </a:lnTo>
                <a:close/>
              </a:path>
              <a:path fill="darkenLess" w="74975" h="21600">
                <a:moveTo>
                  <a:pt x="7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75" y="20200"/>
                </a:lnTo>
                <a:close/>
              </a:path>
              <a:path fill="lighten" w="7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ca9c"/>
                </a:solidFill>
                <a:latin typeface="Times New Roman"/>
              </a:rPr>
              <a:t>退      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2438280" y="5668920"/>
            <a:ext cx="1747800" cy="503280"/>
          </a:xfrm>
          <a:custGeom>
            <a:avLst/>
            <a:gdLst>
              <a:gd name="textAreaLeft" fmla="*/ 32400 w 1747800"/>
              <a:gd name="textAreaRight" fmla="*/ 1715400 w 17478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975" h="21600">
                <a:moveTo>
                  <a:pt x="0" y="0"/>
                </a:moveTo>
                <a:lnTo>
                  <a:pt x="74975" y="0"/>
                </a:lnTo>
                <a:lnTo>
                  <a:pt x="74975" y="21600"/>
                </a:lnTo>
                <a:lnTo>
                  <a:pt x="0" y="21600"/>
                </a:lnTo>
                <a:close/>
              </a:path>
              <a:path fill="lightenLess" w="74975" h="21600">
                <a:moveTo>
                  <a:pt x="0" y="0"/>
                </a:moveTo>
                <a:lnTo>
                  <a:pt x="74975" y="0"/>
                </a:lnTo>
                <a:lnTo>
                  <a:pt x="73575" y="1400"/>
                </a:lnTo>
                <a:lnTo>
                  <a:pt x="1400" y="1400"/>
                </a:lnTo>
                <a:close/>
              </a:path>
              <a:path fill="darken" w="74975" h="21600">
                <a:moveTo>
                  <a:pt x="74975" y="0"/>
                </a:moveTo>
                <a:lnTo>
                  <a:pt x="74975" y="21600"/>
                </a:lnTo>
                <a:lnTo>
                  <a:pt x="73575" y="20200"/>
                </a:lnTo>
                <a:lnTo>
                  <a:pt x="73575" y="1400"/>
                </a:lnTo>
                <a:close/>
              </a:path>
              <a:path fill="darkenLess" w="74975" h="21600">
                <a:moveTo>
                  <a:pt x="7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75" y="20200"/>
                </a:lnTo>
                <a:close/>
              </a:path>
              <a:path fill="lighten" w="7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返     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DA7-419D-4494-BC20-88E03AC6F77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462FF-C5B1-4BCE-AACB-D208BB44C719}" type="datetime1">
              <a:rPr lang="en-US"/>
              <a:t>07/31/26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321360" y="258840"/>
            <a:ext cx="22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1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数据库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81560" y="863640"/>
            <a:ext cx="597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数据库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Data-BASE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： 现阶段对数据库的定义是存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贮在一起的通用化相关数据的集合，它不仅包括描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事物的数据本身，而且包括有关事物之间的联系。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据库文件具有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.dbc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扩展名，可以包含一个或多个表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视图、到远程数据源的连接和存储过程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5760" y="1371600"/>
            <a:ext cx="3506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93160" y="3154320"/>
            <a:ext cx="16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1.3.2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表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94480" y="3838680"/>
            <a:ext cx="508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表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Table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表是构成数据库的基本元素之一，是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据库中数据组织并存储的单元。在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Visual FoxPro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一个表以记录（行）和字段（列）的形式存储数据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它与传统的数据库的概念等同。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434340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508-DFF8-4185-961C-49C1272B5C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404E4-23F9-4DDC-8A2E-33E1A8A35E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81960" y="304920"/>
            <a:ext cx="62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3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视图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SQL VIEW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VIEW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2952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视图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一个定制的虚拟表定义，可以是本地的、远程的或带参数的。视图可引用一个或多个表，或者引用其他视图。视图是可更新的，它可引用远程表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2880" y="3078000"/>
            <a:ext cx="41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4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Relation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25080" y="3672000"/>
            <a:ext cx="517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关系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是表之间的一种链接，它允许您不仅能从当前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选定表中访问数据，而且可以访问其他表中的数据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这种链接指的是联接条件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82880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19112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A48-FCFA-4913-8839-63CD943DCC1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99BDC-30E7-43F3-BD8E-AC54B2A3554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20960" y="30492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5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数据库管理系统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9907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数据库管理系统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Data Base Management System)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：是对数据库进行管理的软件系统。简称为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DBMS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。它的功能可概括为五个方面：数据的组织和存贮、数据的查询、数据的增加删除和修改、数据的排序和索引、数据的统计和分析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19280" y="3276720"/>
            <a:ext cx="19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6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常量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120" y="3809880"/>
            <a:ext cx="5371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常量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一个不变的数值或字符串。常量表达式中包括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常量和操作符，但不包含变量，而且计算结果总是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值。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Visual FoxPro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支持多种类型的常量，如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数值常量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字符常量、日期常量、逻辑常量、货币常量、日期时间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常量等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3434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447920"/>
            <a:ext cx="2819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C2D-9014-44C0-B23C-EF5F23B6718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AED32-C304-4901-BBC9-D112180B83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430440" y="304920"/>
            <a:ext cx="19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7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变量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变量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是值可改变的量，指代计算机内存中的某一位置，其中可存放数据。变量分为字段变量和内存变量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43828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内存变量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：是独立于数据库文件的临时存储单元，可以用来存放表操作过程中或程序运行过程中所要临时保存的数据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8847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字段变量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表中的每一个字段就是一个字段变量，字段名就是字段变量的变量名。字段变量的当前值等于表中当前记录该字段所对应的内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41972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97180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5238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7CC-3F25-4ED1-AE4B-A94BDE35456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E46B9-EF03-4F64-95E6-F6197000EE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23520" y="457200"/>
            <a:ext cx="46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4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文件命名方法和命令构成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2438280" y="13716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4.1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构成的基本格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22860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4.2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有关规则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438280" y="32004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4.3   VFP6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文件命名方法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2438280" y="41148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书写的有关约定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2438280" y="50292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返       回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5257800" y="50292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ca9c"/>
                </a:solidFill>
                <a:latin typeface="Times New Roman"/>
              </a:rPr>
              <a:t>退       出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BB7-05EB-4BB8-9F69-B8DF4D603D9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C3FD8-79C7-48C1-AAD9-8F4153C14A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05440" y="136440"/>
            <a:ext cx="45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6ab94"/>
                </a:solidFill>
                <a:latin typeface="Times New Roman"/>
              </a:rPr>
              <a:t>1.4.1   </a:t>
            </a:r>
            <a:r>
              <a:rPr b="1" lang="zh-CN" sz="4000" spc="-1" strike="noStrike">
                <a:solidFill>
                  <a:srgbClr val="96ab94"/>
                </a:solidFill>
                <a:latin typeface="Times New Roman"/>
              </a:rPr>
              <a:t>命令构成的基本格式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1520" y="932040"/>
            <a:ext cx="712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示       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USE Grad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OUNT ALL FOR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课程成绩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60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LIST ALL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课程成绩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FOR ;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课程成绩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60 TO PR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809880"/>
            <a:ext cx="811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打开名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GRAD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表文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统计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GRAD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中分数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以下的人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在打印机上输出成绩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以下的学生的姓名和分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关闭表文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GRAD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，将其保存在磁盘上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41200" y="3048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这四条命令的功能分别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975-EC7D-4360-8D89-0A7C94F6031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AD21A-9B33-4A41-8513-8D07BB7671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982960" y="182520"/>
            <a:ext cx="33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Visual FoxPro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一般语法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917640"/>
            <a:ext cx="7970760" cy="3933360"/>
          </a:xfrm>
          <a:prstGeom prst="rect">
            <a:avLst/>
          </a:prstGeom>
          <a:solidFill>
            <a:srgbClr val="006666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命令动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式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范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FOR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WHILE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TO FILE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文件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/TO PRINTER/TO ARRA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数组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/TO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内存变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ALL [LIKE/EXCEPT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通配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IN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别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2560" y="5029200"/>
            <a:ext cx="485640" cy="459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可以将命令分为八个部分，即每个顶头行为一个部分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886-2D27-416F-92E3-4E07D6EDDAA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2D194-D474-426F-9EA3-06F4E0D9A9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522240" y="76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各部分的意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49800" y="68580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动词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命令名，用来指示计算机要完成的操作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066680"/>
            <a:ext cx="80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表达式表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用来指示计算机执行该命令所操作的结果参数。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760" y="1447920"/>
            <a:ext cx="80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范围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指定命令可以操作的记录集。范围有下列四种选择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1954080"/>
            <a:ext cx="5538960" cy="13136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ALL  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当前表中的全部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NEXT &lt;n&gt;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从当前记录开始的连续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条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RECORD &lt;n&gt;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当前表中的第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号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REST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从当前记录开始到最后一条记录为止的所有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5400" y="33177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FOR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规定只对满足条件的记录进行操作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9120" y="3733920"/>
            <a:ext cx="87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WHILE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从当前记录开始，按记录顺序从上向下处理，一旦遇到不满足条件的记录，就停止搜索并结束该命令的执行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449568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TO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子句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控制操作结果的输出去向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952880"/>
            <a:ext cx="86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LL [LIKE/EXCEPT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通配符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指出包括或不包括与通配符相匹配的文件、字段或内存变量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571500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IN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别名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工作区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它允许在当前工作区操作指定工作区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7120" y="1066680"/>
            <a:ext cx="1395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7120" y="1447920"/>
            <a:ext cx="1395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120" y="1905120"/>
            <a:ext cx="862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7120" y="3733920"/>
            <a:ext cx="1776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7120" y="4114800"/>
            <a:ext cx="2233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7120" y="4876920"/>
            <a:ext cx="1395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7120" y="5334120"/>
            <a:ext cx="4519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120" y="6172200"/>
            <a:ext cx="2670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F24-9A56-4E06-8C97-07A3B9A29EA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34E13-DB85-4924-87C6-6659BF026AD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83920" y="228600"/>
            <a:ext cx="24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4.2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有关规则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5800" y="1098720"/>
            <a:ext cx="84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动词必须是命令行的第一个非空字符，各子句可以以任意顺序跟在动词后面，命令动词与子句、子句与子句之间用一个或多个空格隔开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6640" y="2378160"/>
            <a:ext cx="38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动词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保留字均可用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或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以上字母简写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9433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行的总长度不得超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048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符（包括空格在内），若命令较长，在显示器上显示不下时，可以分几行写，但除最后一行以外，每行的未尾以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;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结束。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440" y="4282920"/>
            <a:ext cx="84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、关键字、变量名和文件名中的字母既可以大写也可以小写，还可以大写、小写混合，三者等效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581-5E5D-42AE-AF1A-0C9E08C911E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1902A-068F-44FC-BC6A-C7106BDAED8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1447920" y="15238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1  Visual FoxPro 6.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发展概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1447920" y="24382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 Visual FoxPro 6.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基础知识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1447920" y="33526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3 Visual FoxPro 6.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基本概念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1447920" y="42670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文件命名方法和命令构成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5181480"/>
            <a:ext cx="2743200" cy="762120"/>
          </a:xfrm>
          <a:custGeom>
            <a:avLst/>
            <a:gdLst>
              <a:gd name="textAreaLeft" fmla="*/ 49320 w 2743200"/>
              <a:gd name="textAreaRight" fmla="*/ 2693880 w 274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Times New Roman"/>
              </a:rPr>
              <a:t>返          回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0240" y="380880"/>
            <a:ext cx="62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章   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概述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5105520" y="5181480"/>
            <a:ext cx="2743200" cy="762120"/>
          </a:xfrm>
          <a:custGeom>
            <a:avLst/>
            <a:gdLst>
              <a:gd name="textAreaLeft" fmla="*/ 49320 w 2743200"/>
              <a:gd name="textAreaRight" fmla="*/ 2693880 w 274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Times New Roman"/>
              </a:rPr>
              <a:t>退          出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8C5-21F5-4B16-91D2-06C759EA0B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A6B45-22BC-49E7-A225-5B44379924DB}" type="datetime1">
              <a:rPr lang="en-US"/>
              <a:t>07/31/26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55280" y="247680"/>
            <a:ext cx="39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4.3   VFP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文件命名方法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047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名由主文件名和扩展名两部分组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主文件名最长由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符组成，可以包括字母、数字、下划线、连字符，但不能使用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“？”、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/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等。但加入到了数据库中的表和字段名均支持长文件名，最长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符。扩展名由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.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母组成，表示文件类型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52720" y="32004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ABC_DE-f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19520" y="36572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主文件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33840" y="320040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33920" y="3657240"/>
            <a:ext cx="0" cy="101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69240" y="4668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隔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280040" y="3657240"/>
            <a:ext cx="0" cy="146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5360" y="50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扩展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503600" y="3429000"/>
            <a:ext cx="982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063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名中可以大、小写字母子混合使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8D8-6158-4CA6-977F-CC197234113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F5996-F764-4621-A31C-FF7DF996DB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90960" y="42228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、函数符号的约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6240" y="110808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[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其中的内容是可选项，不选时系统自动取缺省值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160" y="1870200"/>
            <a:ext cx="80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其中的内容是用户的选择项，通常有多种可能供用户选择一种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93688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为二选一表示符。要求用户从本符号的左右两项中选择一项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5160" y="392760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省略符。它表示在一个命令或函数表达式中，某一部分可以按同一方式重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D1D-E336-4A84-B424-68B3BF1E9A5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8CAD7-D8BB-470A-8573-A8E6BB77E4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588480" y="425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小    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37800" y="1122480"/>
            <a:ext cx="56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从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FoxBASE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开始发展大致经过了八个阶段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2880" y="16002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对系统的要求不高，本书以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Windows98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为系统平台介绍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使用方法，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功能强大，使用简单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880" y="2286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启动可以通过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Windows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开始菜单、桌面快捷方式、直接运行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.EXE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或任意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文件实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2880" y="2971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退出可以通过在命令窗口中执行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QUIT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系统菜单的退出菜单项或主窗口的“关闭”按钮实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2880" y="36576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文件类型很多，重点掌握所介绍的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12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种常用类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2880" y="40384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数据类型也很多，应重点掌握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种常用数据类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441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应掌握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一些基本概念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48006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8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命令一般由八个部分构成，除命令动词以外，其它子句的位置可以任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952880" y="5684760"/>
            <a:ext cx="1043280" cy="411120"/>
          </a:xfrm>
          <a:custGeom>
            <a:avLst/>
            <a:gdLst>
              <a:gd name="textAreaLeft" fmla="*/ 26640 w 1043280"/>
              <a:gd name="textAreaRight" fmla="*/ 1016640 w 104328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endshow"/>
          </p:cNvPr>
          <p:cNvSpPr/>
          <p:nvPr/>
        </p:nvSpPr>
        <p:spPr>
          <a:xfrm>
            <a:off x="6958080" y="56847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退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B31-FD34-455B-A4E5-69D32ABF1F5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619A6-CA48-48B2-98BD-E1555F9B73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411120"/>
            <a:ext cx="723924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1  Visual FoxPro 6.0</a:t>
            </a: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发展概述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8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BASE+ 1.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8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BASE+ 2.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8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BASE+ 2.1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2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下半年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Pro 2.5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4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下半年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Pro 2.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5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Visual FoxPro 3.0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Visual FoxPro5.0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Visual FoxPro6.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95808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00E-20E7-48A1-B863-AD5E5A3C82C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72753-6785-41C4-AC1F-95278AFEF9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35760" y="457200"/>
            <a:ext cx="64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2  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基础知识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447920" y="1523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.1 VFP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系统的环境及安装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4382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.2  VFP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系统的常用文件类型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3526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.3  VFP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系统的常用数据类型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endshow"/>
          </p:cNvPr>
          <p:cNvSpPr/>
          <p:nvPr/>
        </p:nvSpPr>
        <p:spPr>
          <a:xfrm>
            <a:off x="5410080" y="42670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Times New Roman"/>
              </a:rPr>
              <a:t>退          出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2666880" cy="762120"/>
          </a:xfrm>
          <a:custGeom>
            <a:avLst/>
            <a:gdLst>
              <a:gd name="textAreaLeft" fmla="*/ 49320 w 2666880"/>
              <a:gd name="textAreaRight" fmla="*/ 2617560 w 2666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59" h="21600">
                <a:moveTo>
                  <a:pt x="0" y="0"/>
                </a:moveTo>
                <a:lnTo>
                  <a:pt x="75559" y="0"/>
                </a:lnTo>
                <a:lnTo>
                  <a:pt x="75559" y="21600"/>
                </a:lnTo>
                <a:lnTo>
                  <a:pt x="0" y="21600"/>
                </a:lnTo>
                <a:close/>
              </a:path>
              <a:path fill="lightenLess" w="75559" h="21600">
                <a:moveTo>
                  <a:pt x="0" y="0"/>
                </a:moveTo>
                <a:lnTo>
                  <a:pt x="75559" y="0"/>
                </a:lnTo>
                <a:lnTo>
                  <a:pt x="74159" y="1400"/>
                </a:lnTo>
                <a:lnTo>
                  <a:pt x="1400" y="1400"/>
                </a:lnTo>
                <a:close/>
              </a:path>
              <a:path fill="darken" w="75559" h="21600">
                <a:moveTo>
                  <a:pt x="75559" y="0"/>
                </a:moveTo>
                <a:lnTo>
                  <a:pt x="75559" y="21600"/>
                </a:lnTo>
                <a:lnTo>
                  <a:pt x="74159" y="20200"/>
                </a:lnTo>
                <a:lnTo>
                  <a:pt x="74159" y="1400"/>
                </a:lnTo>
                <a:close/>
              </a:path>
              <a:path fill="darkenLess" w="75559" h="21600">
                <a:moveTo>
                  <a:pt x="75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9" y="20200"/>
                </a:lnTo>
                <a:close/>
              </a:path>
              <a:path fill="lighten" w="75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返       回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367-535A-4879-81CB-E5807B03D67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6BE84-590F-4D3C-B79E-3B8BF3CEBD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4539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488c4"/>
                </a:solidFill>
                <a:latin typeface="Times New Roman"/>
              </a:rPr>
              <a:t>1.2.1   </a:t>
            </a:r>
            <a:r>
              <a:rPr b="1" lang="zh-CN" sz="4000" spc="-1" strike="noStrike">
                <a:solidFill>
                  <a:srgbClr val="8488c4"/>
                </a:solidFill>
                <a:latin typeface="Times New Roman"/>
              </a:rPr>
              <a:t>系统环境及安装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系统环境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Windows 95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或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Windows 98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操作系统，配有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586/133MHz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或更高性能的处理器 ，推荐使用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32MB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以上内存 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VGA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或更高分辨率的显示器 ，硬盘空间为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250MB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到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400MB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PS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鼠标或串行鼠标 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6040" y="1752480"/>
            <a:ext cx="1382760" cy="7920"/>
          </a:xfrm>
          <a:custGeom>
            <a:avLst/>
            <a:gdLst/>
            <a:ahLst/>
            <a:rect l="l" t="t" r="r" b="b"/>
            <a:pathLst>
              <a:path w="871" h="5">
                <a:moveTo>
                  <a:pt x="0" y="5"/>
                </a:moveTo>
                <a:lnTo>
                  <a:pt x="871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2004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直接安装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VFP6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中文版 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719520"/>
            <a:ext cx="3364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6720" y="320364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在【我的电脑】文件夹里双击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1360" y="3733920"/>
            <a:ext cx="27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CD-ROM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驱动器图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809880"/>
            <a:ext cx="542880" cy="341280"/>
          </a:xfrm>
          <a:prstGeom prst="rightArrow">
            <a:avLst>
              <a:gd name="adj1" fmla="val 50000"/>
              <a:gd name="adj2" fmla="val 3976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2960" y="3733920"/>
            <a:ext cx="31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双击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SETUP.EXE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图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3809880"/>
            <a:ext cx="542880" cy="341280"/>
          </a:xfrm>
          <a:prstGeom prst="rightArrow">
            <a:avLst>
              <a:gd name="adj1" fmla="val 50000"/>
              <a:gd name="adj2" fmla="val 3976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22920" y="3738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160" y="42051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向导提示一步一步操作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000" y="473868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VFP6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的启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25780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6600" y="4748040"/>
            <a:ext cx="230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介绍三种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方法：</a:t>
            </a:r>
            <a:r>
              <a:rPr b="0" lang="zh-CN" sz="2800" spc="-1" strike="noStrike" u="sng">
                <a:solidFill>
                  <a:srgbClr val="393a18"/>
                </a:solidFill>
                <a:uFillTx/>
                <a:latin typeface="Times New Roman"/>
                <a:hlinkClick r:id="rId1" action="ppaction://hlinksldjump"/>
              </a:rPr>
              <a:t>菜单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快捷方式、文件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257800"/>
            <a:ext cx="86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VFP6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的退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输入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QUI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后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Enter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键或在【文件】菜单中选择【退出】或单击主窗口右上角的关闭按钮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500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738-1E06-4B42-8284-BE48B94963D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F7015-2313-4942-B165-281D028E54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58520" y="33012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 6.0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系统启动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6" name="bmpF1B4" descr=""/>
          <p:cNvPicPr/>
          <p:nvPr/>
        </p:nvPicPr>
        <p:blipFill>
          <a:blip r:embed="rId1"/>
          <a:stretch/>
        </p:blipFill>
        <p:spPr>
          <a:xfrm>
            <a:off x="654120" y="1752480"/>
            <a:ext cx="1860480" cy="4502160"/>
          </a:xfrm>
          <a:prstGeom prst="rect">
            <a:avLst/>
          </a:prstGeom>
          <a:ln w="0">
            <a:noFill/>
          </a:ln>
        </p:spPr>
      </p:pic>
      <p:pic>
        <p:nvPicPr>
          <p:cNvPr id="117" name="bmp1190" descr=""/>
          <p:cNvPicPr/>
          <p:nvPr/>
        </p:nvPicPr>
        <p:blipFill>
          <a:blip r:embed="rId2"/>
          <a:stretch/>
        </p:blipFill>
        <p:spPr>
          <a:xfrm>
            <a:off x="2521080" y="2265480"/>
            <a:ext cx="2050920" cy="3983040"/>
          </a:xfrm>
          <a:prstGeom prst="rect">
            <a:avLst/>
          </a:prstGeom>
          <a:ln w="0">
            <a:noFill/>
          </a:ln>
        </p:spPr>
      </p:pic>
      <p:pic>
        <p:nvPicPr>
          <p:cNvPr id="118" name="bmp80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124080"/>
            <a:ext cx="1828800" cy="2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533520" y="762120"/>
          <a:ext cx="192384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1923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4753080" y="2714760"/>
            <a:ext cx="1038240" cy="409320"/>
            <a:chOff x="4753080" y="2714760"/>
            <a:chExt cx="1038240" cy="409320"/>
          </a:xfrm>
        </p:grpSpPr>
        <p:sp>
          <p:nvSpPr>
            <p:cNvPr id="122" name=""/>
            <p:cNvSpPr/>
            <p:nvPr/>
          </p:nvSpPr>
          <p:spPr>
            <a:xfrm>
              <a:off x="4998960" y="274320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63634"/>
                  </a:solidFill>
                  <a:latin typeface="Times New Roman"/>
                </a:rPr>
                <a:t>单击此菜单项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753080" y="2714760"/>
            <a:ext cx="1038240" cy="40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53080" y="2714760"/>
                      <a:ext cx="103824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5" name=""/>
          <p:cNvGrpSpPr/>
          <p:nvPr/>
        </p:nvGrpSpPr>
        <p:grpSpPr>
          <a:xfrm>
            <a:off x="304920" y="2205360"/>
            <a:ext cx="1266840" cy="1939320"/>
            <a:chOff x="304920" y="2205360"/>
            <a:chExt cx="1266840" cy="1939320"/>
          </a:xfrm>
        </p:grpSpPr>
        <p:sp>
          <p:nvSpPr>
            <p:cNvPr id="126" name=""/>
            <p:cNvSpPr/>
            <p:nvPr/>
          </p:nvSpPr>
          <p:spPr>
            <a:xfrm>
              <a:off x="380160" y="2205360"/>
              <a:ext cx="213480" cy="19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63634"/>
                  </a:solidFill>
                  <a:latin typeface="Times New Roman"/>
                </a:rPr>
                <a:t>鼠标指向此菜单项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304920" y="2362320"/>
            <a:ext cx="1266840" cy="167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920" y="2362320"/>
                      <a:ext cx="126684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" name=""/>
          <p:cNvGrpSpPr/>
          <p:nvPr/>
        </p:nvGrpSpPr>
        <p:grpSpPr>
          <a:xfrm>
            <a:off x="2286000" y="1900440"/>
            <a:ext cx="1266840" cy="1939320"/>
            <a:chOff x="2286000" y="1900440"/>
            <a:chExt cx="1266840" cy="1939320"/>
          </a:xfrm>
        </p:grpSpPr>
        <p:sp>
          <p:nvSpPr>
            <p:cNvPr id="130" name=""/>
            <p:cNvSpPr/>
            <p:nvPr/>
          </p:nvSpPr>
          <p:spPr>
            <a:xfrm>
              <a:off x="2361240" y="1900440"/>
              <a:ext cx="213480" cy="19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63634"/>
                  </a:solidFill>
                  <a:latin typeface="Times New Roman"/>
                </a:rPr>
                <a:t>鼠标指向此菜单项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2286000" y="2057400"/>
            <a:ext cx="1266840" cy="1676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0" y="2057400"/>
                      <a:ext cx="126684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5029200" y="3686040"/>
            <a:ext cx="2666880" cy="1574280"/>
            <a:chOff x="5029200" y="3686040"/>
            <a:chExt cx="2666880" cy="1574280"/>
          </a:xfrm>
        </p:grpSpPr>
        <p:graphicFrame>
          <p:nvGraphicFramePr>
            <p:cNvPr id="134" name=""/>
            <p:cNvGraphicFramePr/>
            <p:nvPr/>
          </p:nvGraphicFramePr>
          <p:xfrm>
            <a:off x="5391000" y="3686040"/>
            <a:ext cx="1924200" cy="962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91000" y="3686040"/>
                      <a:ext cx="192420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6" name=""/>
            <p:cNvGrpSpPr/>
            <p:nvPr/>
          </p:nvGrpSpPr>
          <p:grpSpPr>
            <a:xfrm>
              <a:off x="5029200" y="4800600"/>
              <a:ext cx="2666880" cy="459720"/>
              <a:chOff x="5029200" y="4800600"/>
              <a:chExt cx="266688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5562720" y="4800600"/>
                <a:ext cx="164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463634"/>
                    </a:solidFill>
                    <a:latin typeface="Times New Roman"/>
                  </a:rPr>
                  <a:t>双击桌面快捷方式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5257800"/>
                <a:ext cx="2666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9" name="bmp8172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711920" y="4724280"/>
            <a:ext cx="822600" cy="84636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858000" y="2004840"/>
            <a:ext cx="1371600" cy="66204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4738" h="21600">
                <a:moveTo>
                  <a:pt x="0" y="0"/>
                </a:moveTo>
                <a:lnTo>
                  <a:pt x="44738" y="0"/>
                </a:lnTo>
                <a:lnTo>
                  <a:pt x="44738" y="21600"/>
                </a:lnTo>
                <a:lnTo>
                  <a:pt x="0" y="21600"/>
                </a:lnTo>
                <a:close/>
              </a:path>
              <a:path fill="lightenLess" w="44738" h="21600">
                <a:moveTo>
                  <a:pt x="0" y="0"/>
                </a:moveTo>
                <a:lnTo>
                  <a:pt x="44738" y="0"/>
                </a:lnTo>
                <a:lnTo>
                  <a:pt x="43338" y="1400"/>
                </a:lnTo>
                <a:lnTo>
                  <a:pt x="1400" y="1400"/>
                </a:lnTo>
                <a:close/>
              </a:path>
              <a:path fill="darken" w="44738" h="21600">
                <a:moveTo>
                  <a:pt x="44738" y="0"/>
                </a:moveTo>
                <a:lnTo>
                  <a:pt x="44738" y="21600"/>
                </a:lnTo>
                <a:lnTo>
                  <a:pt x="43338" y="20200"/>
                </a:lnTo>
                <a:lnTo>
                  <a:pt x="43338" y="1400"/>
                </a:lnTo>
                <a:close/>
              </a:path>
              <a:path fill="darkenLess" w="44738" h="21600">
                <a:moveTo>
                  <a:pt x="4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38" y="20200"/>
                </a:lnTo>
                <a:close/>
              </a:path>
              <a:path fill="lighten" w="4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方法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47A-F948-4DDB-B3FA-D2C6AA4087A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808D5-02B8-49FA-A51A-2176745111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86040" y="1219320"/>
            <a:ext cx="735120" cy="459720"/>
            <a:chOff x="86040" y="1219320"/>
            <a:chExt cx="735120" cy="459720"/>
          </a:xfrm>
        </p:grpSpPr>
        <p:sp>
          <p:nvSpPr>
            <p:cNvPr id="142" name=""/>
            <p:cNvSpPr/>
            <p:nvPr/>
          </p:nvSpPr>
          <p:spPr>
            <a:xfrm>
              <a:off x="86040" y="1676520"/>
              <a:ext cx="735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9800" y="1219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aphicFrame>
        <p:nvGraphicFramePr>
          <p:cNvPr id="144" name=""/>
          <p:cNvGraphicFramePr/>
          <p:nvPr/>
        </p:nvGraphicFramePr>
        <p:xfrm>
          <a:off x="133200" y="104760"/>
          <a:ext cx="192420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04760"/>
                    <a:ext cx="19242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bmp9163" descr=""/>
          <p:cNvPicPr/>
          <p:nvPr/>
        </p:nvPicPr>
        <p:blipFill>
          <a:blip r:embed="rId4"/>
          <a:stretch/>
        </p:blipFill>
        <p:spPr>
          <a:xfrm>
            <a:off x="860400" y="1219320"/>
            <a:ext cx="6634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bmp21E2" descr=""/>
          <p:cNvPicPr/>
          <p:nvPr/>
        </p:nvPicPr>
        <p:blipFill>
          <a:blip r:embed="rId5"/>
          <a:stretch/>
        </p:blipFill>
        <p:spPr>
          <a:xfrm>
            <a:off x="2057400" y="76320"/>
            <a:ext cx="3814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296880" y="838080"/>
            <a:ext cx="741240" cy="459720"/>
            <a:chOff x="3296880" y="838080"/>
            <a:chExt cx="741240" cy="459720"/>
          </a:xfrm>
        </p:grpSpPr>
        <p:sp>
          <p:nvSpPr>
            <p:cNvPr id="149" name=""/>
            <p:cNvSpPr/>
            <p:nvPr/>
          </p:nvSpPr>
          <p:spPr>
            <a:xfrm>
              <a:off x="3303360" y="129528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96880" y="838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pic>
        <p:nvPicPr>
          <p:cNvPr id="151" name="bmpA2E2" descr=""/>
          <p:cNvPicPr/>
          <p:nvPr/>
        </p:nvPicPr>
        <p:blipFill>
          <a:blip r:embed="rId6"/>
          <a:stretch/>
        </p:blipFill>
        <p:spPr>
          <a:xfrm>
            <a:off x="6477120" y="76320"/>
            <a:ext cx="2133360" cy="30416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362360" y="1905120"/>
            <a:ext cx="741960" cy="459720"/>
            <a:chOff x="7362360" y="1905120"/>
            <a:chExt cx="741960" cy="459720"/>
          </a:xfrm>
        </p:grpSpPr>
        <p:sp>
          <p:nvSpPr>
            <p:cNvPr id="153" name=""/>
            <p:cNvSpPr/>
            <p:nvPr/>
          </p:nvSpPr>
          <p:spPr>
            <a:xfrm>
              <a:off x="7369200" y="2362320"/>
              <a:ext cx="735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62360" y="190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523880" y="1295280"/>
            <a:ext cx="540000" cy="486000"/>
          </a:xfrm>
          <a:prstGeom prst="rightArrow">
            <a:avLst>
              <a:gd name="adj1" fmla="val 50000"/>
              <a:gd name="adj2" fmla="val 2777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7120" y="1295280"/>
            <a:ext cx="540000" cy="486000"/>
          </a:xfrm>
          <a:prstGeom prst="rightArrow">
            <a:avLst>
              <a:gd name="adj1" fmla="val 50000"/>
              <a:gd name="adj2" fmla="val 2777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9160" y="4390920"/>
            <a:ext cx="539640" cy="486000"/>
          </a:xfrm>
          <a:prstGeom prst="rightArrow">
            <a:avLst>
              <a:gd name="adj1" fmla="val 50000"/>
              <a:gd name="adj2" fmla="val 2775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8" name="bmpD384" descr=""/>
          <p:cNvPicPr/>
          <p:nvPr/>
        </p:nvPicPr>
        <p:blipFill>
          <a:blip r:embed="rId7"/>
          <a:stretch/>
        </p:blipFill>
        <p:spPr>
          <a:xfrm>
            <a:off x="1828800" y="3200400"/>
            <a:ext cx="2127240" cy="302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6040" y="4419720"/>
            <a:ext cx="539640" cy="485640"/>
          </a:xfrm>
          <a:prstGeom prst="rightArrow">
            <a:avLst>
              <a:gd name="adj1" fmla="val 50000"/>
              <a:gd name="adj2" fmla="val 2778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0" name="bmpF25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3200400"/>
            <a:ext cx="2127240" cy="30272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925280" y="4572000"/>
            <a:ext cx="741240" cy="459720"/>
            <a:chOff x="1925280" y="4572000"/>
            <a:chExt cx="741240" cy="459720"/>
          </a:xfrm>
        </p:grpSpPr>
        <p:sp>
          <p:nvSpPr>
            <p:cNvPr id="162" name=""/>
            <p:cNvSpPr/>
            <p:nvPr/>
          </p:nvSpPr>
          <p:spPr>
            <a:xfrm>
              <a:off x="1931760" y="502920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25280" y="4572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668480" y="4724280"/>
            <a:ext cx="741240" cy="459720"/>
            <a:chOff x="4668480" y="4724280"/>
            <a:chExt cx="741240" cy="459720"/>
          </a:xfrm>
        </p:grpSpPr>
        <p:sp>
          <p:nvSpPr>
            <p:cNvPr id="165" name=""/>
            <p:cNvSpPr/>
            <p:nvPr/>
          </p:nvSpPr>
          <p:spPr>
            <a:xfrm>
              <a:off x="4674960" y="518148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8480" y="472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67" name="">
            <a:hlinkClick r:id="rId10" action="ppaction://hlinksldjump"/>
          </p:cNvPr>
          <p:cNvSpPr/>
          <p:nvPr/>
        </p:nvSpPr>
        <p:spPr>
          <a:xfrm>
            <a:off x="7377840" y="4543560"/>
            <a:ext cx="6685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返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0D5-4BBA-4B2A-ACFE-8FE487FBEAA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AE2E1-4407-4DA4-ACC4-AA6074B777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14320" y="13644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e9eff"/>
                </a:solidFill>
                <a:latin typeface="Times New Roman"/>
              </a:rPr>
              <a:t>1.2.2   VFP6</a:t>
            </a:r>
            <a:r>
              <a:rPr b="1" lang="zh-CN" sz="4000" spc="-1" strike="noStrike">
                <a:solidFill>
                  <a:srgbClr val="5e9eff"/>
                </a:solidFill>
                <a:latin typeface="Times New Roman"/>
              </a:rPr>
              <a:t>系统的常用文件类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040" y="7621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项目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PJT  .PJX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324480" y="6141960"/>
            <a:ext cx="1043280" cy="411120"/>
          </a:xfrm>
          <a:custGeom>
            <a:avLst/>
            <a:gdLst>
              <a:gd name="textAreaLeft" fmla="*/ 26640 w 1043280"/>
              <a:gd name="textAreaRight" fmla="*/ 1016640 w 104328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39720" y="1233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数据库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DBC  .DC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6905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表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DBF .FP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39720" y="21337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程序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PRG .FXP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6049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索引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IDX .CDX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062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内存变量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M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519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屏幕格式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FM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9765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报表格式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FRX  .FR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4337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标签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LBX  .LB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8909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文本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TX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5348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菜单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MNT  .MNX  .MPR  .MPX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805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表单文件 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SCX    .SC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CF2-773F-46E7-9124-A1A490915B5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F3447-FD00-44DC-ACF8-B676D2D6823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93720" y="21276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d4a8"/>
                </a:solidFill>
                <a:latin typeface="Times New Roman"/>
              </a:rPr>
              <a:t>1.2.3   VFP6</a:t>
            </a:r>
            <a:r>
              <a:rPr b="1" lang="zh-CN" sz="4000" spc="-1" strike="noStrike">
                <a:solidFill>
                  <a:srgbClr val="03d4a8"/>
                </a:solidFill>
                <a:latin typeface="Times New Roman"/>
              </a:rPr>
              <a:t>系统的常用数据类型</a:t>
            </a:r>
            <a:r>
              <a:rPr b="0" lang="zh-CN" sz="2400" spc="-1" strike="noStrike">
                <a:solidFill>
                  <a:srgbClr val="03d4a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0047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字符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Character,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6905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数值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Numeric,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376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逻辑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Logic,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062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日期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Date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，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7479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备注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Memo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，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4337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通用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General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，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695808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D3D-7A6B-42DE-9154-A4AA9266628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15D98-7350-4722-B6DF-B3D0AB26CE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03:51:16Z</dcterms:created>
  <dc:creator>黎能武</dc:creator>
  <dc:description/>
  <dc:language>en-US</dc:language>
  <cp:lastModifiedBy>lsj</cp:lastModifiedBy>
  <dcterms:modified xsi:type="dcterms:W3CDTF">2001-09-25T13:39:22Z</dcterms:modified>
  <cp:revision>51</cp:revision>
  <dc:subject/>
  <dc:title>Visual FoxPro 6.0程序设计演示文稿</dc:title>
</cp:coreProperties>
</file>